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33.png" ContentType="image/png"/>
  <Override PartName="/ppt/media/image50.jpeg" ContentType="image/jpeg"/>
  <Override PartName="/ppt/media/image48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5.gif" ContentType="image/gif"/>
  <Override PartName="/ppt/media/image43.jpeg" ContentType="image/jpeg"/>
  <Override PartName="/ppt/media/image38.jpeg" ContentType="image/jpeg"/>
  <Override PartName="/ppt/media/image97.jpeg" ContentType="image/jpeg"/>
  <Override PartName="/ppt/media/image126.wmf" ContentType="image/x-wmf"/>
  <Override PartName="/ppt/media/image34.jpeg" ContentType="image/jpeg"/>
  <Override PartName="/ppt/media/image56.jpeg" ContentType="image/jpeg"/>
  <Override PartName="/ppt/media/image32.jpeg" ContentType="image/jpeg"/>
  <Override PartName="/ppt/media/image30.jpeg" ContentType="image/jpeg"/>
  <Override PartName="/ppt/media/image6.wmf" ContentType="image/x-wmf"/>
  <Override PartName="/ppt/media/image12.jpeg" ContentType="image/jpeg"/>
  <Override PartName="/ppt/media/image88.jpeg" ContentType="image/jpeg"/>
  <Override PartName="/ppt/media/image108.jpeg" ContentType="image/jpeg"/>
  <Override PartName="/ppt/media/image53.jpeg" ContentType="image/jpeg"/>
  <Override PartName="/ppt/media/image10.gif" ContentType="image/gif"/>
  <Override PartName="/ppt/media/image52.jpeg" ContentType="image/jpeg"/>
  <Override PartName="/ppt/media/image31.gif" ContentType="image/gif"/>
  <Override PartName="/ppt/media/image74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23.gif" ContentType="image/gif"/>
  <Override PartName="/ppt/media/image7.gif" ContentType="image/gif"/>
  <Override PartName="/ppt/media/image5.jpeg" ContentType="image/jpeg"/>
  <Override PartName="/ppt/media/image26.jpeg" ContentType="image/jpeg"/>
  <Override PartName="/ppt/media/image105.jpeg" ContentType="image/jpeg"/>
  <Override PartName="/ppt/media/image47.jpeg" ContentType="image/jpeg"/>
  <Override PartName="/ppt/media/image25.wmf" ContentType="image/x-wmf"/>
  <Override PartName="/ppt/media/image19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27.gif" ContentType="image/gif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4.wmf" ContentType="image/x-wmf"/>
  <Override PartName="/ppt/media/image66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72.jpeg" ContentType="image/jpeg"/>
  <Override PartName="/ppt/media/image73.jpeg" ContentType="image/jpeg"/>
  <Override PartName="/ppt/media/image84.jpeg" ContentType="image/jpeg"/>
  <Override PartName="/ppt/media/image104.jpeg" ContentType="image/jpeg"/>
  <Override PartName="/ppt/media/image93.jpeg" ContentType="image/jpeg"/>
  <Override PartName="/ppt/media/image94.jpeg" ContentType="image/jpeg"/>
  <Override PartName="/ppt/media/image95.jpeg" ContentType="image/jpeg"/>
  <Override PartName="/ppt/media/image51.jpeg" ContentType="image/jpeg"/>
  <Override PartName="/ppt/media/image76.jpeg" ContentType="image/jpeg"/>
  <Override PartName="/ppt/media/image125.jpeg" ContentType="image/jpeg"/>
  <Override PartName="/ppt/media/image7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2.jpeg" ContentType="image/jpeg"/>
  <Override PartName="/ppt/media/image92.jpeg" ContentType="image/jpeg"/>
  <Override PartName="/ppt/media/image65.jpeg" ContentType="image/jpeg"/>
  <Override PartName="/ppt/media/image96.jpeg" ContentType="image/jpeg"/>
  <Override PartName="/ppt/media/image113.jpeg" ContentType="image/jpeg"/>
  <Override PartName="/ppt/media/image114.jpeg" ContentType="image/jpeg"/>
  <Override PartName="/ppt/media/image119.jpeg" ContentType="image/jpeg"/>
  <Override PartName="/ppt/media/image82.jpeg" ContentType="image/jpeg"/>
  <Override PartName="/ppt/media/image102.jpeg" ContentType="image/jpeg"/>
  <Override PartName="/ppt/media/image111.jpeg" ContentType="image/jpeg"/>
  <Override PartName="/ppt/media/image91.jpeg" ContentType="image/jpeg"/>
  <Override PartName="/ppt/media/image64.jpeg" ContentType="image/jpeg"/>
  <Override PartName="/ppt/media/image110.jpeg" ContentType="image/jpeg"/>
  <Override PartName="/ppt/media/image90.jpeg" ContentType="image/jpeg"/>
  <Override PartName="/ppt/media/image29.png" ContentType="image/png"/>
  <Override PartName="/ppt/media/image63.jpeg" ContentType="image/jpeg"/>
  <Override PartName="/ppt/media/image106.jpeg" ContentType="image/jpeg"/>
  <Override PartName="/ppt/media/image15.jpeg" ContentType="image/jpeg"/>
  <Override PartName="/ppt/media/image99.jpeg" ContentType="image/jpeg"/>
  <Override PartName="/ppt/media/image20.jpeg" ContentType="image/jpeg"/>
  <Override PartName="/ppt/media/image116.jpeg" ContentType="image/jpeg"/>
  <Override PartName="/ppt/media/image71.jpeg" ContentType="image/jpeg"/>
  <Override PartName="/ppt/media/image70.jpeg" ContentType="image/jpeg"/>
  <Override PartName="/ppt/media/image86.gif" ContentType="image/gif"/>
  <Override PartName="/ppt/media/image69.jpeg" ContentType="image/jpeg"/>
  <Override PartName="/ppt/media/image49.jpeg" ContentType="image/jpeg"/>
  <Override PartName="/ppt/media/image85.gif" ContentType="image/gif"/>
  <Override PartName="/ppt/media/image68.jpeg" ContentType="image/jpeg"/>
  <Override PartName="/ppt/media/image67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60.jpeg" ContentType="image/jpeg"/>
  <Override PartName="/ppt/media/image77.jpeg" ContentType="image/jpeg"/>
  <Override PartName="/ppt/media/image21.jpeg" ContentType="image/jpeg"/>
  <Override PartName="/ppt/media/image117.jpeg" ContentType="image/jpeg"/>
  <Override PartName="/ppt/media/image100.jpeg" ContentType="image/jpeg"/>
  <Override PartName="/ppt/media/image8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A4BC-61C8-4A58-A7DA-76D350B1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1F40-2EA3-4578-9F00-FBB9359F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FB16-88EA-42FC-AE43-70642D55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3EBA-3740-4BE5-AAD2-DB5DCB81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90E8-419A-4AE0-B104-4D0496E1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9778-37D7-40FF-9F42-8AED545F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5466-28C6-47C3-9885-B5A84B5C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B153-33C1-4B0E-A697-3773A722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180-57A8-4415-B3F3-4EDD062B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28F6-6840-48C3-ADD7-9021D784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D8DD-463B-4785-BB4A-EF056293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9255-DA9A-4A53-981F-CC8E4AA5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3D28-AD20-406E-B2EE-379859F06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5.gif"/><Relationship Id="rId2" Type="http://schemas.openxmlformats.org/officeDocument/2006/relationships/image" Target="../media/image86.gi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image" Target="../media/image94.jpeg"/><Relationship Id="rId6" Type="http://schemas.openxmlformats.org/officeDocument/2006/relationships/image" Target="../media/image95.jpeg"/><Relationship Id="rId7" Type="http://schemas.openxmlformats.org/officeDocument/2006/relationships/image" Target="../media/image96.jpeg"/><Relationship Id="rId8" Type="http://schemas.openxmlformats.org/officeDocument/2006/relationships/image" Target="../media/image97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image" Target="../media/image104.jpeg"/><Relationship Id="rId4" Type="http://schemas.openxmlformats.org/officeDocument/2006/relationships/image" Target="../media/image105.jpeg"/><Relationship Id="rId5" Type="http://schemas.openxmlformats.org/officeDocument/2006/relationships/image" Target="../media/image106.jpeg"/><Relationship Id="rId6" Type="http://schemas.openxmlformats.org/officeDocument/2006/relationships/image" Target="../media/image107.jpeg"/><Relationship Id="rId7" Type="http://schemas.openxmlformats.org/officeDocument/2006/relationships/image" Target="../media/image108.jpeg"/><Relationship Id="rId8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2.jpeg"/><Relationship Id="rId2" Type="http://schemas.openxmlformats.org/officeDocument/2006/relationships/image" Target="../media/image113.jpeg"/><Relationship Id="rId3" Type="http://schemas.openxmlformats.org/officeDocument/2006/relationships/image" Target="../media/image114.jpeg"/><Relationship Id="rId4" Type="http://schemas.openxmlformats.org/officeDocument/2006/relationships/image" Target="../media/image115.jpeg"/><Relationship Id="rId5" Type="http://schemas.openxmlformats.org/officeDocument/2006/relationships/image" Target="../media/image116.jpeg"/><Relationship Id="rId6" Type="http://schemas.openxmlformats.org/officeDocument/2006/relationships/image" Target="../media/image117.jpeg"/><Relationship Id="rId7" Type="http://schemas.openxmlformats.org/officeDocument/2006/relationships/image" Target="../media/image118.jpeg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image" Target="../media/image1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1.jpeg"/><Relationship Id="rId2" Type="http://schemas.openxmlformats.org/officeDocument/2006/relationships/image" Target="../media/image122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jpeg"/><Relationship Id="rId3" Type="http://schemas.openxmlformats.org/officeDocument/2006/relationships/image" Target="../media/image125.jpe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1484280"/>
            <a:ext cx="763272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брый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нь!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A4BB-6ACA-44C1-A538-4B3A7FD48FA2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1958760" cy="2808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04000" y="692280"/>
            <a:ext cx="1906560" cy="2736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364000" y="3716280"/>
            <a:ext cx="1901880" cy="2735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195640" y="3716280"/>
            <a:ext cx="1906560" cy="2737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780000" y="692280"/>
            <a:ext cx="1931760" cy="273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752B-54E0-435C-963E-CF710B84D45D}" type="slidenum">
              <a:t>10</a:t>
            </a:fld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9185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0de"/>
                </a:solidFill>
                <a:latin typeface="Times New Roman"/>
              </a:rPr>
              <a:t>За подготовку команд победителей и призёров городских и республиканских соревнова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2071800" cy="2879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971640" y="2492280"/>
            <a:ext cx="2176200" cy="3024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619280" y="2924280"/>
            <a:ext cx="2193840" cy="3095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268360" y="3357720"/>
            <a:ext cx="2152800" cy="3024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2987640" y="3789360"/>
            <a:ext cx="2044800" cy="2908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5508720" y="2349360"/>
            <a:ext cx="2076480" cy="295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6659640" y="3429000"/>
            <a:ext cx="1893960" cy="287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2D3E-8401-4B54-BE7F-DD238D976369}" type="slidenum">
              <a:t>11</a:t>
            </a:fld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9640" y="2276640"/>
            <a:ext cx="8209080" cy="38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выш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валификаци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635280" y="476280"/>
            <a:ext cx="1871640" cy="177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2022-CFB2-487D-BA4F-BD82D8D2FF72}" type="slidenum">
              <a:t>12</a:t>
            </a:fld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1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арийский институт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ема: «Новые подходы к содержанию и организации внеурочных форм физкультурно-оздоровительной и спортивной работы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6 час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правка № 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 – 13 марта 2004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4FA1-5CFC-4285-AF43-871530691107}" type="slidenum">
              <a:t>13</a:t>
            </a:fld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8281800" cy="3892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708360" y="404640"/>
            <a:ext cx="1800360" cy="174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3EDC-A6F7-42AB-A94A-66B829D7FC8A}" type="slidenum">
              <a:t>14</a:t>
            </a:fld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2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арийский институт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ема: «Требования охраны труда по программе обучения учителей физической культуры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6 час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достоверение № 8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 – 24 марта 2005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9D0F-0348-4C03-A448-EC64AA25292C}" type="slidenum">
              <a:t>15</a:t>
            </a:fld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344000" cy="5160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380360" y="515772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22D7-C2F3-419C-88C2-EBAF66B9C166}" type="slidenum">
              <a:t>16</a:t>
            </a:fld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3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арийский институт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ема: «Технологические аспекты повышения профессионального мастерства учителей физической культуры по оздоровлению учащихся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2 ча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достоверение № 315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3 января – 4 февраля 2006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BD82-CB07-4B1A-8567-7FDFA3BC67B6}" type="slidenum">
              <a:t>17</a:t>
            </a:fld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692520" cy="5256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19280" y="4081320"/>
            <a:ext cx="1512720" cy="1408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003640" y="981000"/>
            <a:ext cx="3610080" cy="518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0934-0E5D-4EDB-97CE-84BD7BB73327}" type="slidenum">
              <a:t>18</a:t>
            </a:fld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68360" y="907920"/>
            <a:ext cx="799128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учно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етодическ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ятельност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020000" y="333360"/>
            <a:ext cx="1800000" cy="165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6DDD-2BF0-4F40-854E-C81BBBCB5653}" type="slidenum">
              <a:t>19</a:t>
            </a:fld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4000" y="4724280"/>
            <a:ext cx="86407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МОУ «Средняя общеобразовательная школа № 9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6093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г. Йошкар-Ола, 2007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87280" y="620640"/>
            <a:ext cx="6840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Шерстнёв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лексей 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алерьевич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47640" y="4581360"/>
            <a:ext cx="6048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изическая культу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B6F7-7578-4C8D-8C14-AF8908AE5957}" type="slidenum">
              <a:t>2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10de"/>
                </a:solidFill>
                <a:latin typeface="Times New Roman"/>
              </a:rPr>
              <a:t>Тема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33303"/>
                </a:solidFill>
                <a:latin typeface="Times New Roman"/>
              </a:rPr>
              <a:t>«Работа с одарёнными детьми в условиях общеобразовательной шко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Цел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– подготовка победителей и призёров соревнований и олимпи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3303"/>
                </a:solidFill>
                <a:latin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1. Выявление одарённых детей, диагностика талантов, прогнозирование результат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2. Создание условий для совместной деятельности наставника и ребёнк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3. Целенаправленная работа по раскрытию внутреннего потенциала личн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3303"/>
                </a:solidFill>
                <a:latin typeface="Times New Roman"/>
              </a:rPr>
              <a:t>Этапы работ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. Убеждение детей и их родителей в необходимости раскрытия потенциа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. Постоянный контакт с классными руководителями и администрацией шко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3. Применение индивидуальных заданий на урок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4. Дополнительные занятия в спортивных секц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5. Привлечение к работе высококвалифицированных специалис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6. Организация соревновательной практики и теоретических занят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7. Своевременное применение восстановительных средст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8. Организация совместного досуга с учащими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885080" y="5130720"/>
            <a:ext cx="942840" cy="153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C1AB-336A-4D6D-92C4-2722C73DF5C0}" type="slidenum">
              <a:t>20</a:t>
            </a:fld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907920"/>
            <a:ext cx="7921440" cy="468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спростран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дагогическог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пыт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04000" y="4724280"/>
            <a:ext cx="2000160" cy="160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EE25-1131-4E11-A37B-5EE3A7DCBBD5}" type="slidenum">
              <a:t>21</a:t>
            </a:fld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Выступле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067280" y="1413000"/>
            <a:ext cx="4752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На педсовете школы по тем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«Организация работы по физическому воспитанию с одарёнными детьми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e6"/>
                </a:solidFill>
                <a:latin typeface="Times New Roman"/>
              </a:rPr>
              <a:t>10.11.200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На заседании МО учителей физкультуры г.Йошкар-Олы по тем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«Особенности организации и проведения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аключительного этапа Всероссийской Олимпиады школьников по предмету «Физическая культура» в 2006 (г. Кисловодск) и 2007 (г. Ульяновск) годах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10de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e6"/>
                </a:solidFill>
                <a:latin typeface="Times New Roman"/>
              </a:rPr>
              <a:t>24.08.200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В МИО на КПК для учителей физкультуры и тренеров РМЭ по тем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«Организация работы по физическому  воспитанию с одарёнными детьм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e6"/>
                </a:solidFill>
                <a:latin typeface="Times New Roman"/>
              </a:rPr>
              <a:t>15.12.2007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52728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5DFA-4CA8-492F-8FF4-B71CDFBF978D}" type="slidenum">
              <a:t>22</a:t>
            </a:fld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24000" y="549360"/>
            <a:ext cx="835164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астие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нкурса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фессиональног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стерств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04000" y="26028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8501-26AF-4A4D-A646-A42BF5EF34DF}" type="slidenum">
              <a:t>23</a:t>
            </a:fld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Действующий спортсме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йствующий Мастер спорта России по военно-спортивным многоборь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йствующий Мастер спорта России по полиатлон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олжаю активно участвовать в соревнованиях по лёгкой атлетике, плаванию, лыжным гонкам, стрельбе, военному пятиборью, офицерскому троеборью, полиатлон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днократно становился победителем и призёром Чемпионатов РМЭ, России, Приволжско-Уральского военного округа и Вооружённых Сил Р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FC45-3A4C-424B-ABF3-A7E67FF24858}" type="slidenum">
              <a:t>24</a:t>
            </a:fld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3789360"/>
            <a:ext cx="3622680" cy="2509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3600360" cy="2489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932360" y="620640"/>
            <a:ext cx="3600360" cy="2449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932360" y="3789360"/>
            <a:ext cx="3672000" cy="25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49C3-A3BC-44AC-8771-AC643AC3F1AF}" type="slidenum">
              <a:t>25</a:t>
            </a:fld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205000" cy="3384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708360" y="2421000"/>
            <a:ext cx="4896000" cy="3301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84820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333360"/>
            <a:ext cx="855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e6"/>
                </a:solidFill>
                <a:latin typeface="Times New Roman"/>
              </a:rPr>
              <a:t>Серебряный призёр молодёжног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e6"/>
                </a:solidFill>
                <a:latin typeface="Times New Roman"/>
              </a:rPr>
              <a:t>Чемпионата Европы по военному пятибор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15573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3303"/>
                </a:solidFill>
                <a:latin typeface="Times New Roman"/>
              </a:rPr>
              <a:t>Бельгия, г. Дист, 2000 г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94560" y="5734080"/>
            <a:ext cx="875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0de"/>
                </a:solidFill>
                <a:latin typeface="Times New Roman"/>
              </a:rPr>
              <a:t>От тренировок</a:t>
            </a:r>
            <a:r>
              <a:rPr b="1" lang="en-US" sz="4000" spc="-1" strike="noStrike">
                <a:solidFill>
                  <a:srgbClr val="1f10de"/>
                </a:solidFill>
                <a:latin typeface="Times New Roman"/>
              </a:rPr>
              <a:t>   –    </a:t>
            </a:r>
            <a:r>
              <a:rPr b="1" lang="en-US" sz="4000" spc="-1" strike="noStrike">
                <a:solidFill>
                  <a:srgbClr val="e33303"/>
                </a:solidFill>
                <a:latin typeface="Times New Roman"/>
              </a:rPr>
              <a:t>К   ПОБЕДЕ</a:t>
            </a:r>
            <a:r>
              <a:rPr b="1" lang="en-US" sz="4800" spc="-1" strike="noStrike">
                <a:solidFill>
                  <a:srgbClr val="e33303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07BE-8BF9-49E9-88F8-AB03F53256CA}" type="slidenum">
              <a:t>26</a:t>
            </a:fld>
          </a:p>
        </p:txBody>
      </p:sp>
    </p:spTree>
  </p:cSld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444760" cy="3502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867280" y="620640"/>
            <a:ext cx="2855880" cy="4176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619280" y="1700280"/>
            <a:ext cx="2441520" cy="3454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132000" y="3068640"/>
            <a:ext cx="2519640" cy="35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57B6-09CE-46B0-9D8C-6BBB25702466}" type="slidenum">
              <a:t>27</a:t>
            </a:fld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46800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Представитель сборной команды РМЭ на Российских олимпиадах школьников по предмету «Физическая культура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456000" cy="345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6CEC-8793-4BB2-A30B-4063B24AEC10}" type="slidenum">
              <a:t>28</a:t>
            </a:fld>
          </a:p>
        </p:txBody>
      </p:sp>
    </p:spTree>
  </p:cSld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38844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1f10d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f10de"/>
                </a:solidFill>
                <a:latin typeface="Times New Roman"/>
              </a:rPr>
              <a:t>2006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1f10d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f10de"/>
                </a:solidFill>
                <a:latin typeface="Times New Roman"/>
              </a:rPr>
              <a:t>20-26 апрел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1f10d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f10de"/>
                </a:solidFill>
                <a:latin typeface="Times New Roman"/>
              </a:rPr>
              <a:t>г. Кисловодс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16360" y="260280"/>
            <a:ext cx="388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33303"/>
                </a:solidFill>
                <a:latin typeface="Times New Roman"/>
              </a:rPr>
              <a:t>2007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33303"/>
                </a:solidFill>
                <a:latin typeface="Times New Roman"/>
              </a:rPr>
              <a:t>14-19 апрел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33303"/>
                </a:solidFill>
                <a:latin typeface="Times New Roman"/>
              </a:rPr>
              <a:t>г. Ульяновс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2876760" cy="3745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2841840" cy="36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D6D4-23F6-4A30-AF07-CF1448C5CBB1}" type="slidenum">
              <a:t>29</a:t>
            </a:fld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Шерстнёв Алексей Валерьеви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4321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Образование высшее - МГПИ им. Н.К. Крупской, Факультет физической культуры, 1997 го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Специальность -  «Физическая культура и спорт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ысшая категория, 2003 го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едагогический стаж работы – 10 л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932360" y="1341360"/>
            <a:ext cx="3672000" cy="489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DD9B-B4DE-4342-845E-347C53582BB1}" type="slidenum">
              <a:t>3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371628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59280" y="371628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84360" y="476280"/>
            <a:ext cx="3600360" cy="273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4932360" y="476280"/>
            <a:ext cx="3673440" cy="268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B35C-668B-443E-ADDE-2ADA4E507A9B}" type="slidenum">
              <a:t>30</a:t>
            </a:fld>
          </a:p>
        </p:txBody>
      </p:sp>
    </p:spTree>
  </p:cSld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Кисловодск - 200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3156120" cy="2367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19640" y="1359000"/>
            <a:ext cx="3157560" cy="2367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95280" y="400536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732720" y="400536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843280" y="3933720"/>
            <a:ext cx="3527280" cy="2648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03280" y="1341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«Медовые водопады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15066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ора «Кольц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6560" y="3933720"/>
            <a:ext cx="177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Замок Ковар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 Любв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393372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анатор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3303"/>
                </a:solidFill>
                <a:latin typeface="Times New Roman"/>
              </a:rPr>
              <a:t>«Москв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38815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3303"/>
                </a:solidFill>
                <a:latin typeface="Times New Roman"/>
              </a:rPr>
              <a:t>Душутина Оль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6165720"/>
            <a:ext cx="3672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Бронзовый призёр Олимпиады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2A1A-D620-4C48-9FA4-DDE381724594}" type="slidenum">
              <a:t>31</a:t>
            </a:fld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Ульяновск - 200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3384720" cy="2249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219640" y="1052640"/>
            <a:ext cx="3456000" cy="2433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324000" y="3500280"/>
            <a:ext cx="2203200" cy="3097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796000" y="5516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ушутина Оль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59706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Бронзовый призёр Олимпиа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21360"/>
            <a:ext cx="216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Бронзовый призёр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Олимпиад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35211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Шубин Пав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19280" y="12175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щее фо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16720" y="11444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2700360" y="5013360"/>
            <a:ext cx="2376360" cy="1581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692440" y="3422520"/>
            <a:ext cx="238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3303"/>
                </a:solidFill>
                <a:latin typeface="Times New Roman"/>
              </a:rPr>
              <a:t>Слёз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330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3303"/>
                </a:solidFill>
                <a:latin typeface="Times New Roman"/>
              </a:rPr>
              <a:t>ПОБЕДЫ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653D-6C40-46EF-AFDE-3B74432488F7}" type="slidenum">
              <a:t>32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300720" y="378936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50920" y="378936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516720" y="404640"/>
            <a:ext cx="1944720" cy="2592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3348000" y="333360"/>
            <a:ext cx="2486160" cy="3313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3132000" y="4221000"/>
            <a:ext cx="2951280" cy="22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1F1F-45F0-4632-8780-594F3B73010C}" type="slidenum">
              <a:t>33</a:t>
            </a:fld>
          </a:p>
        </p:txBody>
      </p:sp>
    </p:spTree>
  </p:cSld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771640" y="386064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3097440" cy="2325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3240360" cy="23050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Награжде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6708-EDEE-40ED-B3FE-0B3039F0B5AB}" type="slidenum">
              <a:t>34</a:t>
            </a:fld>
          </a:p>
        </p:txBody>
      </p:sp>
    </p:spTree>
  </p:cSld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5361120" cy="4021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227640" y="333360"/>
            <a:ext cx="2559240" cy="3411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26920" y="404640"/>
            <a:ext cx="43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Талисма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олимпиад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D357-E87B-4FBE-A3E7-8573CD186DC0}" type="slidenum">
              <a:t>35</a:t>
            </a:fld>
          </a:p>
        </p:txBody>
      </p:sp>
    </p:spTree>
  </p:cSld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84360" y="549360"/>
            <a:ext cx="777528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крыты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рок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ероприят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516720" y="3284640"/>
            <a:ext cx="2087640" cy="156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1240-1BC7-421E-9ED7-911A5E4FA5EA}" type="slidenum">
              <a:t>36</a:t>
            </a:fld>
          </a:p>
        </p:txBody>
      </p:sp>
    </p:spTree>
  </p:cSld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Открытое мероприят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36720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Спортивный праздни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«Папа, мама, я – спортивная семья!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17 февраля 2007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Учащиеся 5-6 классов и их родит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995640" y="2276640"/>
            <a:ext cx="4680000" cy="312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C9DD-0E40-45DF-BDEE-337A6C2C9E21}" type="slidenum">
              <a:t>37</a:t>
            </a:fld>
          </a:p>
        </p:txBody>
      </p:sp>
    </p:spTree>
  </p:cSld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Моменты соревнован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1280" y="4076640"/>
            <a:ext cx="3671640" cy="2435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76720" y="4076640"/>
            <a:ext cx="3600720" cy="2394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700360" y="1341360"/>
            <a:ext cx="3600360" cy="239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A509-9711-4595-857C-98637811E42E}" type="slidenum">
              <a:t>38</a:t>
            </a:fld>
          </a:p>
        </p:txBody>
      </p:sp>
    </p:spTree>
  </p:cSld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Открытое мероприят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303"/>
                </a:solidFill>
                <a:latin typeface="Times New Roman"/>
              </a:rPr>
              <a:t>Республиканский турнир по баскетболу среди школьников, посвящённый Дню Защитника Отече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303"/>
                </a:solidFill>
                <a:latin typeface="Times New Roman"/>
              </a:rPr>
              <a:t>24 февраля 2007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303"/>
                </a:solidFill>
                <a:latin typeface="Times New Roman"/>
              </a:rPr>
              <a:t>Спорткомплекс «Юбилейный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303"/>
                </a:solidFill>
                <a:latin typeface="Times New Roman"/>
              </a:rPr>
              <a:t>Участники - сборные команды юношей городов и районов РМ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9B1F-2FCE-4F51-8F3F-E3951EB2149A}" type="slidenum">
              <a:t>39</a:t>
            </a:fld>
          </a:p>
        </p:txBody>
      </p:sp>
    </p:spTree>
  </p:cSld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5184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Должностные обязанност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 МОУ «Средняя общеобразовательная школа № 9 г. Йошкар-Олы» (3 – 11 классы) - 10 л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портивные секции: баскетбол (юноши), баскетбол (девуш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ружок «Олимпийское врем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ренер-преподаватель ГОУ ДОД РМЭ СДЮШОР (отделение баскетбол) – 5 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 1 сентября 2007 года - председатель МО учителей физкультуры г. Йошкар-О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737080" cy="20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55C5-B624-4B38-B11E-136B21588C79}" type="slidenum">
              <a:t>4</a:t>
            </a:fld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f10de"/>
                </a:solidFill>
                <a:latin typeface="Times New Roman"/>
              </a:rPr>
              <a:t>Главный судья соревновани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3413160" cy="4897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3157560" cy="2368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219640" y="4149720"/>
            <a:ext cx="3168720" cy="236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D3AE-DA58-4B9A-A9E0-620E1FBEC29F}" type="slidenum">
              <a:t>40</a:t>
            </a:fld>
          </a:p>
        </p:txBody>
      </p:sp>
    </p:spTree>
  </p:cSld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Открытое мероприят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3303"/>
                </a:solidFill>
                <a:latin typeface="Times New Roman"/>
              </a:rPr>
              <a:t>Первенство г. Йошкар-Олы среди школьников по легкоатлетическому кроссу в зачёт спартакиа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3303"/>
                </a:solidFill>
                <a:latin typeface="Times New Roman"/>
              </a:rPr>
              <a:t>Сентябрь 2007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3303"/>
                </a:solidFill>
                <a:latin typeface="Times New Roman"/>
              </a:rPr>
              <a:t>Сомбатхей - «Осиновая рощ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3303"/>
                </a:solidFill>
                <a:latin typeface="Times New Roman"/>
              </a:rPr>
              <a:t>Участники - сборные команды школ г. Йошкар-Ол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B902-DE4B-44FE-AC85-1BC82CE3C8D8}" type="slidenum">
              <a:t>41</a:t>
            </a:fld>
          </a:p>
        </p:txBody>
      </p:sp>
    </p:spTree>
  </p:cSld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Моменты соревнован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7EE-442C-488E-920B-1E97AA4EAAD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24000" y="549360"/>
            <a:ext cx="748800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казател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зультат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ятельност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524720" y="1628640"/>
            <a:ext cx="1290600" cy="19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B011-3F23-4596-959B-327C57FA0065}" type="slidenum">
              <a:t>43</a:t>
            </a:fld>
          </a:p>
        </p:txBody>
      </p:sp>
    </p:spTree>
  </p:cSld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34544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f10de"/>
                </a:solidFill>
                <a:latin typeface="Times New Roman"/>
              </a:rPr>
              <a:t>Успеваемость учащих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106344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611280" y="2060640"/>
          <a:ext cx="7846920" cy="451476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  <a:gridCol w="1960560"/>
                <a:gridCol w="196200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б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 обуч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ь качества знаний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певаемость учащих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10de"/>
                          </a:solidFill>
                          <a:latin typeface="Times New Roman"/>
                        </a:rPr>
                        <a:t>2004-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4.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8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10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10de"/>
                          </a:solidFill>
                          <a:latin typeface="Times New Roman"/>
                        </a:rPr>
                        <a:t>2005-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4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8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10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10de"/>
                          </a:solidFill>
                          <a:latin typeface="Times New Roman"/>
                        </a:rPr>
                        <a:t>2006-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4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9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10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f10de"/>
                          </a:solidFill>
                          <a:latin typeface="Times New Roman"/>
                        </a:rPr>
                        <a:t>I </a:t>
                      </a:r>
                      <a:r>
                        <a:rPr b="1" lang="ru-RU" sz="2000" spc="-1" strike="noStrike">
                          <a:solidFill>
                            <a:srgbClr val="1f10de"/>
                          </a:solidFill>
                          <a:latin typeface="Times New Roman"/>
                        </a:rPr>
                        <a:t>полугодие 2007-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10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B8D5-FC32-40D5-A3AB-25446EA6D643}" type="slidenum">
              <a:t>44</a:t>
            </a:fld>
          </a:p>
        </p:txBody>
      </p:sp>
    </p:spTree>
  </p:cSld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116000" y="765000"/>
            <a:ext cx="676908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аст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лимпиада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оревнования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579680" cy="15796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948360" y="765000"/>
            <a:ext cx="1708200" cy="16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8578-873A-4832-9D23-11FF2F82742E}" type="slidenum">
              <a:t>45</a:t>
            </a:fld>
          </a:p>
        </p:txBody>
      </p:sp>
    </p:spTree>
  </p:cSld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10de"/>
                </a:solidFill>
                <a:latin typeface="Times New Roman"/>
              </a:rPr>
              <a:t>Школа – постоянный участник Всероссийского кросса нац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55164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731D-9057-44E1-A98E-112420CD076F}" type="slidenum">
              <a:t>46</a:t>
            </a:fld>
          </a:p>
        </p:txBody>
      </p:sp>
    </p:spTree>
  </p:cSld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9185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e6"/>
                </a:solidFill>
                <a:latin typeface="Times New Roman"/>
              </a:rPr>
              <a:t>Городская спартакиада школьников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7702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Школа №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2000 по 2005 годы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06 – 2007 учебный год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днократный  победитель и призёр в легкоатлетическом кроссе, эстафете по улицам города, в легкоатлетическом троеборье, лыжных гонках, баскетболе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скетбольная команда юношей трижды становилась победителем Первенства РМЭ (2004-2006 г.г.), а в 2007 г. стала Чемпионом РМЭ среди школьн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D699-294E-476E-9260-D73921AEE9A3}" type="slidenum">
              <a:t>47</a:t>
            </a:fld>
          </a:p>
        </p:txBody>
      </p:sp>
    </p:spTree>
  </p:cSld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5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Баскетбол</a:t>
            </a:r>
            <a:r>
              <a:rPr b="1" lang="en-US" sz="4000" spc="-1" strike="noStrike">
                <a:solidFill>
                  <a:srgbClr val="0000e6"/>
                </a:solidFill>
                <a:latin typeface="Times New Roman"/>
              </a:rPr>
              <a:t> - первенство </a:t>
            </a:r>
            <a:br>
              <a:rPr sz="4000"/>
            </a:br>
            <a:r>
              <a:rPr b="1" lang="en-US" sz="4000" spc="-1" strike="noStrike">
                <a:solidFill>
                  <a:srgbClr val="0000e6"/>
                </a:solidFill>
                <a:latin typeface="Times New Roman"/>
              </a:rPr>
              <a:t>г. Йошкар-Олы среди школь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8098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Девуш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5 год – 2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6 год – 2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7 год – 4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7960" y="1700280"/>
            <a:ext cx="38098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Юнош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5 год – 3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6 год – 2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7 год – 1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3887640" cy="2527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59280" y="3789360"/>
            <a:ext cx="3672000" cy="2536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F1B8-A82A-4B36-BCCE-F87446FB5BA7}" type="slidenum">
              <a:t>48</a:t>
            </a:fld>
          </a:p>
        </p:txBody>
      </p:sp>
    </p:spTree>
  </p:cSld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130120" cy="2952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2103480" cy="2923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908000" y="2492280"/>
            <a:ext cx="2057400" cy="2924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2843280" y="3573360"/>
            <a:ext cx="2012760" cy="2880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4140360" y="476280"/>
            <a:ext cx="2000160" cy="2881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4932360" y="1557360"/>
            <a:ext cx="1965240" cy="2879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5940360" y="2637000"/>
            <a:ext cx="1992240" cy="2879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6804000" y="3645000"/>
            <a:ext cx="1995480" cy="287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E2EA-560D-407A-9FBE-402DE6F905D0}" type="slidenum">
              <a:t>49</a:t>
            </a:fld>
          </a:p>
        </p:txBody>
      </p:sp>
    </p:spTree>
  </p:cSld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0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1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9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1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8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1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7" dur="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6" dur="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3" dur="1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4" dur="4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4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236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Высшее образов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6913440" cy="4608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093080" y="260280"/>
            <a:ext cx="1871640" cy="127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F533-B48C-4880-BBC3-B9CF6C6C5DC8}" type="slidenum">
              <a:t>5</a:t>
            </a:fld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e6"/>
                </a:solidFill>
                <a:latin typeface="Times New Roman"/>
              </a:rPr>
              <a:t>Гребнев Антон,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1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б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446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емпион г. Йошкар-Олы и РМЭ среди школьников по баскетбол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зёр Чемпионата РМЭ среди мужчин по баскетбол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емпион Республики Татарстан среди юношей 1989-1990 г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зёр Первенства России среди юношей 1989-1990 г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197160" cy="46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BC1C-5B20-48AF-B531-0874DA24FA73}" type="slidenum">
              <a:t>50</a:t>
            </a:fld>
          </a:p>
        </p:txBody>
      </p:sp>
    </p:spTree>
  </p:cSld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9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6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3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0" dur="1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997440" cy="5688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859280" y="765000"/>
            <a:ext cx="3745080" cy="24274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932360" y="3500280"/>
            <a:ext cx="3672000" cy="2756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6992-A19B-44FF-BA40-533636F8C96A}" type="slidenum">
              <a:t>51</a:t>
            </a:fld>
          </a:p>
        </p:txBody>
      </p:sp>
    </p:spTree>
  </p:cSld>
  <p:timing>
    <p:tnLst>
      <p:par>
        <p:cTn id="1633" dur="indefinite" restart="never" nodeType="tmRoot">
          <p:childTnLst>
            <p:seq>
              <p:cTn id="1634" dur="indefinite" nodeType="mainSeq">
                <p:childTnLst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11280" y="692280"/>
            <a:ext cx="792144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лимпиад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изической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ультур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FBD5-0C91-4CEA-86DE-87B7A9C4A95A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351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e6"/>
                </a:solidFill>
                <a:latin typeface="Times New Roman"/>
              </a:rPr>
              <a:t>Городская олимпиад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Команда школы №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004 – 2005 учебный год –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4 мес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005 – 2006 учебный год –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2 мес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006 – 2007 учебный год –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2 мес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Семеро учащихся школы становились победителями и призёрами городской олимпиа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9E07-C53C-4FAC-B096-7D0993636D64}" type="slidenum">
              <a:t>53</a:t>
            </a:fld>
          </a:p>
        </p:txBody>
      </p:sp>
    </p:spTree>
  </p:cSld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3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2" dur="8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3" dur="8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4" dur="8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353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e6"/>
                </a:solidFill>
                <a:latin typeface="Times New Roman"/>
              </a:rPr>
              <a:t>Республиканская </a:t>
            </a:r>
            <a:br>
              <a:rPr sz="6600"/>
            </a:br>
            <a:r>
              <a:rPr b="1" lang="en-US" sz="6600" spc="-1" strike="noStrike">
                <a:solidFill>
                  <a:srgbClr val="0000e6"/>
                </a:solidFill>
                <a:latin typeface="Times New Roman"/>
              </a:rPr>
              <a:t>олимпиад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923920"/>
            <a:ext cx="79898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Четверо учащихся школы становились победителями и призёрам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очарников Илья       –  2005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лгополова Мария   –  2006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азонов Евгений         –  2006, 2007 г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ушутина Ольга        –  2005, 2006, 2007 г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C174-7E14-4550-B392-78AE8BE2934C}" type="slidenum">
              <a:t>54</a:t>
            </a:fld>
          </a:p>
        </p:txBody>
      </p:sp>
    </p:spTree>
  </p:cSld>
  <p:timing>
    <p:tnLst>
      <p:par>
        <p:cTn id="1685" dur="indefinite" restart="never" nodeType="tmRoot">
          <p:childTnLst>
            <p:seq>
              <p:cTn id="1686" dur="indefinite" nodeType="mainSeq">
                <p:childTnLst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1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2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3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e6"/>
                </a:solidFill>
                <a:latin typeface="Times New Roman"/>
              </a:rPr>
              <a:t>Сазонов Евгений</a:t>
            </a:r>
            <a:r>
              <a:rPr b="1" lang="en-US" sz="6000" spc="-1" strike="noStrike">
                <a:solidFill>
                  <a:srgbClr val="0000e6"/>
                </a:solidFill>
                <a:latin typeface="Times New Roman"/>
              </a:rPr>
              <a:t>,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1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кла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84360" y="1503360"/>
            <a:ext cx="3235320" cy="4805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211640" y="1628640"/>
            <a:ext cx="1465200" cy="2016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4716360" y="2060640"/>
            <a:ext cx="1513080" cy="2133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5148360" y="2708280"/>
            <a:ext cx="1469880" cy="21607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796000" y="3284640"/>
            <a:ext cx="1579680" cy="2232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6443640" y="3789360"/>
            <a:ext cx="1598760" cy="2232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7093080" y="4292640"/>
            <a:ext cx="1623960" cy="22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87D0-ECA6-4A11-93C9-0FFD3DE20210}" type="slidenum">
              <a:t>55</a:t>
            </a:fld>
          </a:p>
        </p:txBody>
      </p:sp>
    </p:spTree>
  </p:cSld>
  <p:timing>
    <p:tnLst>
      <p:par>
        <p:cTn id="1726" dur="indefinite" restart="never" nodeType="tmRoot">
          <p:childTnLst>
            <p:seq>
              <p:cTn id="1727" dur="indefinite" nodeType="mainSeq">
                <p:childTnLst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7" dur="1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8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1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7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5" dur="1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6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4" dur="1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5" dur="4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4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1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4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1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3" dur="4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4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40323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e6"/>
                </a:solidFill>
                <a:latin typeface="Times New Roman"/>
              </a:rPr>
              <a:t>Душутина </a:t>
            </a:r>
            <a:br>
              <a:rPr sz="6000"/>
            </a:br>
            <a:r>
              <a:rPr b="1" i="1" lang="ru-RU" sz="6000" spc="-1" strike="noStrike">
                <a:solidFill>
                  <a:srgbClr val="0000e6"/>
                </a:solidFill>
                <a:latin typeface="Times New Roman"/>
              </a:rPr>
              <a:t>Ольга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11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б 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клас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427640" y="549360"/>
            <a:ext cx="4213080" cy="56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0CDA-BF3C-4F9F-9629-33B7859798C7}" type="slidenum">
              <a:t>56</a:t>
            </a:fld>
          </a:p>
        </p:txBody>
      </p:sp>
    </p:spTree>
  </p:cSld>
  <p:timing>
    <p:tnLst>
      <p:par>
        <p:cTn id="1787" dur="indefinite" restart="never" nodeType="tmRoot">
          <p:childTnLst>
            <p:seq>
              <p:cTn id="1788" dur="indefinite" nodeType="mainSeq">
                <p:childTnLst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3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4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708360" y="836280"/>
            <a:ext cx="49672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Неоднократная   победительница городских и республиканских олимпиа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Бронзовый призёр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Всероссиийской олимпиады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600" spc="-1" strike="noStrike">
                <a:solidFill>
                  <a:srgbClr val="ff3300"/>
                </a:solidFill>
                <a:latin typeface="Times New Roman"/>
              </a:rPr>
              <a:t>(Кисловодск-200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Бронзовый призёр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VIII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Всероссиийской олимпиады</a:t>
            </a:r>
            <a:r>
              <a:rPr b="1" i="1" lang="ru-RU" sz="26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i="1" lang="en-US" sz="26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ru-RU" sz="2600" spc="-1" strike="noStrike">
                <a:solidFill>
                  <a:srgbClr val="ff3300"/>
                </a:solidFill>
                <a:latin typeface="Times New Roman"/>
              </a:rPr>
              <a:t>Ульяновск – 2007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бладательница Гранта Президента Российской Федерации В.В.Пути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2665440" cy="35528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116000" y="692280"/>
            <a:ext cx="1513080" cy="139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1E80-8F9D-4148-B33C-DEB9806E27D3}" type="slidenum">
              <a:t>57</a:t>
            </a:fld>
          </a:p>
        </p:txBody>
      </p:sp>
    </p:spTree>
  </p:cSld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6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1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8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1743120" cy="25210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25600" y="1557360"/>
            <a:ext cx="1728720" cy="2448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2556000" y="2924280"/>
            <a:ext cx="1746000" cy="2519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3708360" y="3933720"/>
            <a:ext cx="1755720" cy="2449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4859280" y="549360"/>
            <a:ext cx="1824120" cy="2519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5724360" y="1557360"/>
            <a:ext cx="1725840" cy="2448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6588000" y="2852640"/>
            <a:ext cx="1768680" cy="244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A51D-D9B0-4282-8E5A-3333486B45F6}" type="slidenum">
              <a:t>58</a:t>
            </a:fld>
          </a:p>
        </p:txBody>
      </p:sp>
    </p:spTree>
  </p:cSld>
  <p:timing>
    <p:tnLst>
      <p:par>
        <p:cTn id="1839" dur="indefinite" restart="never" nodeType="tmRoot">
          <p:childTnLst>
            <p:seq>
              <p:cTn id="1840" dur="indefinite" nodeType="mainSeq">
                <p:childTnLst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f10de"/>
                </a:solidFill>
                <a:latin typeface="Times New Roman"/>
              </a:rPr>
              <a:t>Кисловодск - 200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3332160" cy="482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0E77-1560-46B3-9D42-9997938D38D5}" type="slidenum">
              <a:t>59</a:t>
            </a:fld>
          </a:p>
        </p:txBody>
      </p:sp>
    </p:spTree>
  </p:cSld>
  <p:timing>
    <p:tnLst>
      <p:par>
        <p:cTn id="1913" dur="indefinite" restart="never" nodeType="tmRoot">
          <p:childTnLst>
            <p:seq>
              <p:cTn id="1914" dur="indefinite" nodeType="mainSeq">
                <p:childTnLst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Высшая категор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625920" cy="5040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705640" y="2133720"/>
            <a:ext cx="2020680" cy="33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8ED9-1314-444E-B660-E1FF88B126B3}" type="slidenum">
              <a:t>6</a:t>
            </a:fld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f10de"/>
                </a:solidFill>
                <a:latin typeface="Times New Roman"/>
              </a:rPr>
              <a:t>Ульяновск - 200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3216600" cy="4680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003640" y="1628640"/>
            <a:ext cx="3456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AD5A-BE32-4982-9B3D-E5AE921F95F5}" type="slidenum">
              <a:t>60</a:t>
            </a:fld>
          </a:p>
        </p:txBody>
      </p:sp>
    </p:spTree>
  </p:cSld>
  <p:timing>
    <p:tnLst>
      <p:par>
        <p:cTn id="1932" dur="indefinite" restart="never" nodeType="tmRoot">
          <p:childTnLst>
            <p:seq>
              <p:cTn id="1933" dur="indefinite" nodeType="mainSeq">
                <p:childTnLst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Грант Президента Р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114720" cy="44751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780000" y="407664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5508720" y="1484280"/>
            <a:ext cx="3095640" cy="232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C7BA-DFF2-4B3E-912C-C24B467426EE}" type="slidenum">
              <a:t>61</a:t>
            </a:fld>
          </a:p>
        </p:txBody>
      </p:sp>
    </p:spTree>
  </p:cSld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5280" y="907920"/>
            <a:ext cx="698508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нимание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084720" y="2205000"/>
            <a:ext cx="2737080" cy="222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7431-85A5-473C-A082-4EC81BE08F66}" type="slidenum">
              <a:t>62</a:t>
            </a:fld>
          </a:p>
        </p:txBody>
      </p:sp>
    </p:spTree>
  </p:cSld>
  <p:timing>
    <p:tnLst>
      <p:par>
        <p:cTn id="1968" dur="indefinite" restart="never" nodeType="tmRoot">
          <p:childTnLst>
            <p:seq>
              <p:cTn id="1969" dur="indefinite" nodeType="mainSeq">
                <p:childTnLst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Программы и учебные пособ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064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«Программа физического воспитания учащихся 1-11 классов, основанная на одном из видов спорта (баскетбол)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иленский М.Я., Литвинов Е.Н., Туркунов Б.И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 РФ, 1996 год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Учебные пособ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-4 классы: Лях В.И. «Мой друг – физкультур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5-7 классы: Виленский М.Я. «Физическая культур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8-9 классы: Лях В.И. «Физическая культур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0-11 классы: Лях В.И. «Физическая культур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020000" y="5589720"/>
            <a:ext cx="1798560" cy="106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6E35-0B3E-49BB-B1E2-03B842E280ED}" type="slidenum">
              <a:t>7</a:t>
            </a:fld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Звани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43923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стер спорта России по военно-спортивным многоборья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.11. 97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268280"/>
            <a:ext cx="41716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тер спорта России по полиатлон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0.12.98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32000" y="2852640"/>
            <a:ext cx="2616120" cy="3662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580000" y="2852640"/>
            <a:ext cx="2589120" cy="3600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10D9-3AF1-4E73-B8D9-ED71424D5312}" type="slidenum">
              <a:t>8</a:t>
            </a:fld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6191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Награжде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чётная грамота Управления образования Администрации г. Йошкар-Олы, 28.10.03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чётная грамота Управления образования Администрации г. Йошкар-Олы за многолетний добросовестный труд, 15.06.0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амота  Комитета по физической культуре и спорту Администрации г. Йошкар-Олы за большой вклад в развитие физической культуры, 27.08.0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лагодарность Министерства образования РМЭ, 05.12.0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лагодарственное письмо Министерства образования РМЭ, февраль 2007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387440" cy="14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0331-8248-4EB3-B57A-F5DA1D39E44E}" type="slidenum">
              <a:t>9</a:t>
            </a:fld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4:11:27Z</dcterms:created>
  <dc:creator>User</dc:creator>
  <dc:description/>
  <dc:language>en-US</dc:language>
  <cp:lastModifiedBy>Ирина</cp:lastModifiedBy>
  <dcterms:modified xsi:type="dcterms:W3CDTF">2007-08-07T11:44:43Z</dcterms:modified>
  <cp:revision>113</cp:revision>
  <dc:subject/>
  <dc:title>Федерация интернет Образования</dc:title>
</cp:coreProperties>
</file>